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23D-B538-48F3-9950-641AA763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037-F05F-4EB2-8392-9A1C39F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34B-EC7B-46F9-A7EB-D0D20375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D86-CD08-4936-B9FC-7810D955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F30-C48E-4780-A5AD-840E995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9D-684B-4367-8384-AF949771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431-1B10-4C09-AFE0-BBE7391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614-C949-4336-858B-64F6A55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544-6C89-4F96-93D3-86B6855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B7B-BADA-4171-929E-E70D083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42D-5C3A-4A21-95E6-94B1404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9D5-4068-46A6-A88D-E999491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96C-E5F3-494D-B251-779F7C47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or: Arpitha Sundararaj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105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Es antigu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510552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cias!!!!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cab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abaña. Es grande y fabu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5720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Es agradable y peque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34340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medor. Es muy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sala. Es bello y vi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Es moderno y peque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6194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Ba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ño. Es lujos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impresion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Jardin. Mi Jardin es magnifico y fabul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277344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7:14Z</dcterms:created>
  <dc:creator>sundararajanarp</dc:creator>
  <dc:description/>
  <dc:language>en-US</dc:language>
  <cp:lastModifiedBy>sundararajanarp</cp:lastModifiedBy>
  <dcterms:modified xsi:type="dcterms:W3CDTF">2013-04-02T12:41:01Z</dcterms:modified>
  <cp:revision>5</cp:revision>
  <dc:subject/>
  <dc:title>La Casa  By: Arpitha Sundararajan</dc:title>
</cp:coreProperties>
</file>